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7017C43-4AF0-4B76-AF33-3722E352ADD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47520" y="48589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ries to capture the notion of “Importance of a pag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es Backlinks for ra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voids trivial spamming: Distributes pages’ “voting power” among the pages they are linking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ortant” page linking to a page  will raise it’s rank more the “Not Important”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9C9-D9F5-4E5E-B358-6BD5D4B5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CD1-E9F9-4C3F-A3B0-86761616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B1D-1946-4BD3-ADF1-854C9D90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A65-DC6E-4B57-A8B0-2493281B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8FDE-7E93-468C-92E1-9703EBCA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028E-0384-44A7-8BE8-B27C52A5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C5D3-624D-40AD-874E-2C6A0B42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FE5D-233E-490E-B906-E5B748A4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F5D0-755F-4ACD-ABD5-7ECA7440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4965-A4FF-43DF-8D19-5BB623E5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9E24-B6B8-43EA-91AA-E272B3FD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9C01-B8B9-4CC3-9A47-888EF0E6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6C90-830D-4102-95F0-648A9CEC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035E-5D64-4C84-A95F-3F14F37D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0BC6-5CEB-4BB7-9EAD-7A692C06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9307-E68B-469E-94CC-80398F0E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C0C6-14CE-4143-81AB-6E12F1B8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83C7-C574-440F-A963-5AD1FEFE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9CE-B249-480A-9CF5-C8F26030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C368-D9E0-434E-9F9E-1C417441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A2E4-16CF-484D-80F3-9D82C6B5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B45F-8FBA-4B6A-A646-6ADEECAB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4ACD-558B-41D0-B412-972F3298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E333-C189-4613-9D09-FF8E36B2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5BAC-ABC1-481B-9992-7CECC0CDCE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7C02-BCBA-48F9-8A36-716A0C5784DE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Link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2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5148360" y="6308640"/>
            <a:ext cx="3995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2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uthority and Hub scor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Oval 3"/>
          <p:cNvSpPr/>
          <p:nvPr/>
        </p:nvSpPr>
        <p:spPr>
          <a:xfrm>
            <a:off x="685800" y="441972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Oval 4"/>
          <p:cNvSpPr/>
          <p:nvPr/>
        </p:nvSpPr>
        <p:spPr>
          <a:xfrm>
            <a:off x="762120" y="3200400"/>
            <a:ext cx="76176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Oval 5"/>
          <p:cNvSpPr/>
          <p:nvPr/>
        </p:nvSpPr>
        <p:spPr>
          <a:xfrm>
            <a:off x="838080" y="190512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Oval 6"/>
          <p:cNvSpPr/>
          <p:nvPr/>
        </p:nvSpPr>
        <p:spPr>
          <a:xfrm>
            <a:off x="7467480" y="449568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7543800" y="190512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7543800" y="320040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5943600" y="3200400"/>
            <a:ext cx="76212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2514600" y="3200400"/>
            <a:ext cx="76212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Line 11"/>
          <p:cNvSpPr/>
          <p:nvPr/>
        </p:nvSpPr>
        <p:spPr>
          <a:xfrm>
            <a:off x="1523880" y="243828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152388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Line 13"/>
          <p:cNvSpPr/>
          <p:nvPr/>
        </p:nvSpPr>
        <p:spPr>
          <a:xfrm flipV="1">
            <a:off x="6553080" y="251424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67057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6553080" y="38098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382320" y="19573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382320" y="325296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306360" y="4468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3354120" y="32767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1447920" y="380952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5487840" y="3325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383320" y="19540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86868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8383320" y="3325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8305920" y="4648320"/>
            <a:ext cx="35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685440" y="5383080"/>
            <a:ext cx="366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(1) = h(2) + h(3) + h(4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5089320" y="5346720"/>
            <a:ext cx="366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(1) = a(5) + a(6) + a(7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Line 28"/>
          <p:cNvSpPr/>
          <p:nvPr/>
        </p:nvSpPr>
        <p:spPr>
          <a:xfrm>
            <a:off x="457200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HITS: Link Analysis Computa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485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: Vector of Authority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 scor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: Vector of Hub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 score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: Adjacency matrix in which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i,j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= 1 if i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2286000" y="2438280"/>
                <a:ext cx="446256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m>
                      <m:mr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</m:e>
                      </m:mr>
                      <m:mr>
                        <m:e>
                          <m:r>
                            <m:t xml:space="preserve">h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h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74" name="Text Box 5"/>
          <p:cNvSpPr/>
          <p:nvPr/>
        </p:nvSpPr>
        <p:spPr>
          <a:xfrm>
            <a:off x="914400" y="5637960"/>
            <a:ext cx="766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us, h is an eigenvector of AA</a:t>
            </a:r>
            <a:r>
              <a:rPr b="0" lang="en-US" sz="3200" spc="-1" strike="noStrike" baseline="30000">
                <a:solidFill>
                  <a:srgbClr val="cc0000"/>
                </a:solidFill>
                <a:latin typeface="Arial"/>
              </a:rPr>
              <a:t>t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 is an eigenvector of A</a:t>
            </a:r>
            <a:r>
              <a:rPr b="0" lang="en-US" sz="3200" spc="-1" strike="noStrike" baseline="30000">
                <a:solidFill>
                  <a:srgbClr val="cc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Oval Callout 5"/>
          <p:cNvSpPr/>
          <p:nvPr/>
        </p:nvSpPr>
        <p:spPr>
          <a:xfrm>
            <a:off x="7000920" y="4714920"/>
            <a:ext cx="1857240" cy="928800"/>
          </a:xfrm>
          <a:prstGeom prst="wedgeEllipseCallout">
            <a:avLst>
              <a:gd name="adj1" fmla="val -64879"/>
              <a:gd name="adj2" fmla="val 1003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ymmetri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atric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ighting lin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ight more if the query occurs in the neighborhood of the link (e.g. anchor text)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457200" y="3200400"/>
                <a:ext cx="3016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↦</m:t>
                        </m:r>
                        <m:r>
                          <m:t xml:space="preserve">y</m:t>
                        </m:r>
                      </m:sub>
                      <m:sup/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5"/>
              <p:cNvSpPr txBox="1"/>
              <p:nvPr/>
            </p:nvSpPr>
            <p:spPr>
              <a:xfrm>
                <a:off x="457200" y="4800600"/>
                <a:ext cx="3016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y</m:t>
                        </m:r>
                        <m:r>
                          <m:t xml:space="preserve">↦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4530600" y="3200400"/>
                <a:ext cx="4308480" cy="25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↦</m:t>
                            </m:r>
                            <m:r>
                              <m:t xml:space="preserve">y</m:t>
                            </m:r>
                          </m:sub>
                          <m:sup/>
                          <m:e/>
                        </m:nary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↦</m:t>
                            </m:r>
                            <m:r>
                              <m:t xml:space="preserve">x</m:t>
                            </m:r>
                          </m:sub>
                          <m:sup/>
                          <m:e/>
                        </m:nary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AutoShape 7"/>
          <p:cNvSpPr/>
          <p:nvPr/>
        </p:nvSpPr>
        <p:spPr>
          <a:xfrm>
            <a:off x="304920" y="3200400"/>
            <a:ext cx="3352680" cy="2590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3780000" y="4267080"/>
            <a:ext cx="639720" cy="486000"/>
          </a:xfrm>
          <a:prstGeom prst="rightArrow">
            <a:avLst>
              <a:gd name="adj1" fmla="val 50000"/>
              <a:gd name="adj2" fmla="val 3290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-independent or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rst generation: using link counts as simple measures of popularity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Undirected popularity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ach page gets a score given by the number of in-links plus the number of out-links (es. 3+2=5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Directed popularity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core of a page = number of its in-links (es. 3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2819520" y="5638680"/>
            <a:ext cx="3429000" cy="1143000"/>
            <a:chOff x="2819520" y="5638680"/>
            <a:chExt cx="3429000" cy="1143000"/>
          </a:xfrm>
        </p:grpSpPr>
        <p:sp>
          <p:nvSpPr>
            <p:cNvPr id="96" name="Oval 5"/>
            <p:cNvSpPr/>
            <p:nvPr/>
          </p:nvSpPr>
          <p:spPr>
            <a:xfrm>
              <a:off x="4038480" y="5791320"/>
              <a:ext cx="914400" cy="9144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" name="Line 6"/>
            <p:cNvSpPr/>
            <p:nvPr/>
          </p:nvSpPr>
          <p:spPr>
            <a:xfrm>
              <a:off x="3048120" y="5638680"/>
              <a:ext cx="10666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8" name="Line 7"/>
            <p:cNvSpPr/>
            <p:nvPr/>
          </p:nvSpPr>
          <p:spPr>
            <a:xfrm>
              <a:off x="2819520" y="6248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" name="Line 8"/>
            <p:cNvSpPr/>
            <p:nvPr/>
          </p:nvSpPr>
          <p:spPr>
            <a:xfrm flipV="1">
              <a:off x="3124080" y="6477120"/>
              <a:ext cx="9907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 flipV="1">
              <a:off x="4952880" y="579132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>
              <a:off x="4876920" y="6477120"/>
              <a:ext cx="1371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2" name="AutoShape 11"/>
          <p:cNvSpPr/>
          <p:nvPr/>
        </p:nvSpPr>
        <p:spPr>
          <a:xfrm>
            <a:off x="6516720" y="5638680"/>
            <a:ext cx="2627280" cy="1219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asy to SPA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econd generation: </a:t>
            </a:r>
            <a:r>
              <a:rPr b="1" lang="en-US" sz="4000" spc="-1" strike="noStrike">
                <a:solidFill>
                  <a:srgbClr val="cc0000"/>
                </a:solidFill>
                <a:latin typeface="Lucida Sans"/>
              </a:rPr>
              <a:t>PageRan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Each link has its own importance!!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ageRank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is 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28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dependent of the quer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28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ny interpretations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 Intuition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1066680" y="1828800"/>
          <a:ext cx="7086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4"/>
          <p:cNvSpPr/>
          <p:nvPr/>
        </p:nvSpPr>
        <p:spPr>
          <a:xfrm>
            <a:off x="6715080" y="6095880"/>
            <a:ext cx="2428920" cy="762120"/>
          </a:xfrm>
          <a:prstGeom prst="rect">
            <a:avLst/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What about nodes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with no in/out links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oogle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 Pageran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3"/>
              <p:cNvSpPr txBox="1"/>
              <p:nvPr/>
            </p:nvSpPr>
            <p:spPr>
              <a:xfrm>
                <a:off x="6324480" y="5711760"/>
                <a:ext cx="281952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ut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  <m:m>
                                <m:mr>
                                  <m:e/>
                                  <m:e>
                                    <m:r>
                                      <m:t xml:space="preserve">i</m:t>
                                    </m:r>
                                  </m:e>
                                </m:mr>
                              </m:m>
                              <m:r>
                                <m:t xml:space="preserve">→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  <m:e/>
                                            </m:mr>
                                          </m:m>
                                        </m:e>
                                        <m:e/>
                                      </m:mr>
                                    </m:m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lse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838080" y="1862280"/>
                <a:ext cx="523404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Rectangle 5"/>
          <p:cNvSpPr/>
          <p:nvPr/>
        </p:nvSpPr>
        <p:spPr>
          <a:xfrm>
            <a:off x="304920" y="4876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Lucida Sans"/>
                <a:ea typeface="Arial"/>
              </a:rPr>
              <a:t>B(i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: set of pages linking to i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Lucida Sans"/>
                <a:ea typeface="Arial"/>
              </a:rPr>
              <a:t>#out(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: number of outgoing links from j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Lucida Sans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: vector of components 1/sqrt{N}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28600" y="5638680"/>
            <a:ext cx="5715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4429080" y="1771560"/>
            <a:ext cx="1857600" cy="1371600"/>
          </a:xfrm>
          <a:prstGeom prst="ellipse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6149160" y="1673280"/>
            <a:ext cx="22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Random jum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6" name="Group 10"/>
          <p:cNvGrpSpPr/>
          <p:nvPr/>
        </p:nvGrpSpPr>
        <p:grpSpPr>
          <a:xfrm>
            <a:off x="6566760" y="2786040"/>
            <a:ext cx="1451880" cy="1357200"/>
            <a:chOff x="6566760" y="2786040"/>
            <a:chExt cx="1451880" cy="1357200"/>
          </a:xfrm>
        </p:grpSpPr>
        <p:sp>
          <p:nvSpPr>
            <p:cNvPr id="117" name="AutoShape 11"/>
            <p:cNvSpPr/>
            <p:nvPr/>
          </p:nvSpPr>
          <p:spPr>
            <a:xfrm rot="18527400">
              <a:off x="6632640" y="3539520"/>
              <a:ext cx="647640" cy="431640"/>
            </a:xfrm>
            <a:prstGeom prst="leftArrow">
              <a:avLst>
                <a:gd name="adj1" fmla="val 50000"/>
                <a:gd name="adj2" fmla="val 3751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Text Box 12"/>
            <p:cNvSpPr/>
            <p:nvPr/>
          </p:nvSpPr>
          <p:spPr>
            <a:xfrm>
              <a:off x="6566760" y="2786040"/>
              <a:ext cx="145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Lucida Sans"/>
                </a:rPr>
                <a:t>Principal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Lucida Sans"/>
                </a:rPr>
                <a:t>eigenvector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19" name="TextBox 12"/>
          <p:cNvSpPr/>
          <p:nvPr/>
        </p:nvSpPr>
        <p:spPr>
          <a:xfrm>
            <a:off x="1017000" y="3786120"/>
            <a:ext cx="55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r = [ </a:t>
            </a:r>
            <a:r>
              <a:rPr b="0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it-IT" sz="3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 + (1-</a:t>
            </a:r>
            <a:r>
              <a:rPr b="0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) e e</a:t>
            </a:r>
            <a:r>
              <a:rPr b="0" lang="it-IT" sz="36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] × r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4143240" y="1643040"/>
            <a:ext cx="2071800" cy="157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ree different interpretations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15184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(intuitive interpretatio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-cit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x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(easy for computatio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igenvector computation or a linear system solu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kov Chai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(useful to prove convergence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50000"/>
              </a:lnSpc>
              <a:spcBef>
                <a:spcPts val="20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 sort of </a:t>
            </a:r>
            <a:r>
              <a:rPr b="0" lang="en-US" sz="2000" spc="-1" strike="noStrike">
                <a:solidFill>
                  <a:srgbClr val="a50021"/>
                </a:solidFill>
                <a:latin typeface="Lucida Sans"/>
              </a:rPr>
              <a:t>Usage Simul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4264200" y="4683600"/>
            <a:ext cx="4695840" cy="2058480"/>
            <a:chOff x="4264200" y="4683600"/>
            <a:chExt cx="4695840" cy="2058480"/>
          </a:xfrm>
        </p:grpSpPr>
        <p:sp>
          <p:nvSpPr>
            <p:cNvPr id="124" name="Oval 5"/>
            <p:cNvSpPr/>
            <p:nvPr/>
          </p:nvSpPr>
          <p:spPr>
            <a:xfrm>
              <a:off x="5559480" y="5675400"/>
              <a:ext cx="914400" cy="9144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" name="Line 6"/>
            <p:cNvSpPr/>
            <p:nvPr/>
          </p:nvSpPr>
          <p:spPr>
            <a:xfrm flipV="1">
              <a:off x="4416480" y="636120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Line 7"/>
            <p:cNvSpPr/>
            <p:nvPr/>
          </p:nvSpPr>
          <p:spPr>
            <a:xfrm>
              <a:off x="4416480" y="5522760"/>
              <a:ext cx="12193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>
              <a:off x="4264200" y="61326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>
              <a:off x="6473880" y="6132600"/>
              <a:ext cx="990720" cy="0"/>
            </a:xfrm>
            <a:prstGeom prst="line">
              <a:avLst/>
            </a:prstGeom>
            <a:ln w="120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6171840" y="468360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ny node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Text Box 11"/>
            <p:cNvSpPr/>
            <p:nvPr/>
          </p:nvSpPr>
          <p:spPr>
            <a:xfrm>
              <a:off x="6915240" y="54921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 flipV="1">
              <a:off x="6093000" y="5065560"/>
              <a:ext cx="228600" cy="6098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Text Box 13"/>
            <p:cNvSpPr/>
            <p:nvPr/>
          </p:nvSpPr>
          <p:spPr>
            <a:xfrm>
              <a:off x="7392600" y="5858280"/>
              <a:ext cx="15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Neighbo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Text Box 14"/>
            <p:cNvSpPr/>
            <p:nvPr/>
          </p:nvSpPr>
          <p:spPr>
            <a:xfrm>
              <a:off x="5342400" y="4826880"/>
              <a:ext cx="7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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4" name="Group 15"/>
          <p:cNvGrpSpPr/>
          <p:nvPr/>
        </p:nvGrpSpPr>
        <p:grpSpPr>
          <a:xfrm>
            <a:off x="324000" y="5084640"/>
            <a:ext cx="3816360" cy="1152360"/>
            <a:chOff x="324000" y="5084640"/>
            <a:chExt cx="3816360" cy="1152360"/>
          </a:xfrm>
        </p:grpSpPr>
        <p:sp>
          <p:nvSpPr>
            <p:cNvPr id="135" name="Rectangle 16"/>
            <p:cNvSpPr/>
            <p:nvPr/>
          </p:nvSpPr>
          <p:spPr>
            <a:xfrm>
              <a:off x="324000" y="5084640"/>
              <a:ext cx="3743280" cy="115236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Text Box 17"/>
            <p:cNvSpPr/>
            <p:nvPr/>
          </p:nvSpPr>
          <p:spPr>
            <a:xfrm>
              <a:off x="447840" y="5175000"/>
              <a:ext cx="36925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Lucida Sans"/>
                </a:rPr>
                <a:t>In the steady state</a:t>
              </a:r>
              <a:r>
                <a:rPr b="0" lang="ja-JP" sz="1800" spc="-1" strike="noStrike">
                  <a:solidFill>
                    <a:srgbClr val="000000"/>
                  </a:solidFill>
                  <a:latin typeface="Lucida Sans"/>
                </a:rPr>
                <a:t>”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 each page has a long-term visit rate 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- </a:t>
              </a: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use this as the page</a:t>
              </a:r>
              <a:r>
                <a:rPr b="0" lang="ja-JP" sz="1800" spc="-1" strike="noStrike">
                  <a:solidFill>
                    <a:srgbClr val="3333cc"/>
                  </a:solidFill>
                  <a:latin typeface="Lucida Sans"/>
                </a:rPr>
                <a:t>’</a:t>
              </a: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s score.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gerank: use in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processing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graph, build matri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e its </a:t>
            </a:r>
            <a:r>
              <a:rPr b="1" lang="en-US" sz="2400" spc="-1" strike="noStrike">
                <a:solidFill>
                  <a:srgbClr val="cc0000"/>
                </a:solidFill>
                <a:latin typeface="Lucida Sans"/>
              </a:rPr>
              <a:t>principal eigenvector 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[i] is the pagerank of pag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We are interested in the </a:t>
            </a:r>
            <a:r>
              <a:rPr b="0" i="1" lang="en-US" sz="2600" spc="-1" strike="noStrike">
                <a:solidFill>
                  <a:srgbClr val="3333cc"/>
                </a:solidFill>
                <a:latin typeface="Comic Sans MS"/>
              </a:rPr>
              <a:t>relative ord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rieve pages containing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ank them by their Pageran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The final order is query-</a:t>
            </a:r>
            <a:r>
              <a:rPr b="0" i="1" lang="en-US" sz="2600" spc="-1" strike="noStrike">
                <a:solidFill>
                  <a:srgbClr val="3333cc"/>
                </a:solidFill>
                <a:latin typeface="Comic Sans MS"/>
              </a:rPr>
              <a:t>independ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5558040" y="2130480"/>
            <a:ext cx="33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it-IT" sz="32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 + (1-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) e e</a:t>
            </a:r>
            <a:r>
              <a:rPr b="0" lang="it-IT" sz="32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HITS: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ypertext Induced Topic Search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1" name="Picture 41" descr=""/>
          <p:cNvPicPr/>
          <p:nvPr/>
        </p:nvPicPr>
        <p:blipFill>
          <a:blip r:embed="rId1"/>
          <a:stretch/>
        </p:blipFill>
        <p:spPr>
          <a:xfrm>
            <a:off x="1500120" y="1933560"/>
            <a:ext cx="61437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lculating HI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Comic Sans MS"/>
              </a:rPr>
              <a:t>It is query-</a:t>
            </a:r>
            <a:r>
              <a:rPr b="0" i="1" lang="en-US" sz="3800" spc="-1" strike="noStrike">
                <a:solidFill>
                  <a:srgbClr val="a50021"/>
                </a:solidFill>
                <a:latin typeface="Comic Sans MS"/>
              </a:rPr>
              <a:t>dependent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oduces two scores per pag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Authority scor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a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ood authori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age for a topic i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ointe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by many good hubs for that top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Hub score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ood hub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age for a topic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oint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many authoritative pages for that top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3-10-31T15:22:59Z</dcterms:modified>
  <cp:revision>1187</cp:revision>
  <dc:subject/>
  <dc:title>Web Algorithmics</dc:title>
</cp:coreProperties>
</file>